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gif" ContentType="image/gif"/>
  <Override PartName="/ppt/media/image7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2864-192F-469E-83FF-3A7F05D00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8305-F0A8-4000-8D80-8EE87D54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FB7B-D7C1-4CCE-A368-C7D9FC52B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1212-A7C1-48B7-A27B-10CADE5D5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4644-37F4-4383-BBE3-C28FBB4B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2D73-1B38-481F-9057-2B738E81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AD54-1FF4-46F0-BF61-F6963666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EDFC-A05E-4C04-947A-3D78F63B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E73A-07E8-434D-A0F2-FAEDC1B8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E267-2ADD-4222-A4C9-7D1C4E62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62B4-C133-4439-AD5F-A66E9A7E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CE5D-D8A5-41A7-BC0D-6CB9706D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001C-B5AB-4B12-9668-7156F0B37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igestiv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581280" y="2133720"/>
            <a:ext cx="2262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s wa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14 cm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3276360" cy="3233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791320" y="4267080"/>
            <a:ext cx="1295280" cy="10670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cle that controls when wastes leaves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2170080" cy="29955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 flipV="1">
            <a:off x="4572000" y="4572000"/>
            <a:ext cx="1828800" cy="1371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cal digestion - tee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digestion – sal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 cm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859280" y="2128680"/>
            <a:ext cx="361476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ophag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cular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stal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25 cm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038480" y="1752480"/>
            <a:ext cx="3962520" cy="3716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5880" y="3276720"/>
            <a:ext cx="1219320" cy="1523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00400" y="1905120"/>
            <a:ext cx="335268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estive ju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y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22 cm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724280" y="2438280"/>
            <a:ext cx="287676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digestion occur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es pass out through villi into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690 cm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710240" y="1871640"/>
            <a:ext cx="3914640" cy="3981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791320" y="3657600"/>
            <a:ext cx="1676160" cy="1752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ncre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ory or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does not go through the panc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chemicals to help break down macro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964040" y="1600200"/>
            <a:ext cx="340524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477120" y="4267080"/>
            <a:ext cx="990360" cy="7621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ory or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many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bile to help digest f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504960" cy="3460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29200" y="2362320"/>
            <a:ext cx="1981080" cy="13716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ll Blad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ory or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s 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digest f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964040" y="1600200"/>
            <a:ext cx="3405240" cy="4525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324480" y="3809880"/>
            <a:ext cx="533520" cy="8384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rge Intestine (Col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rbs extra nutrients &amp;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s wastes into soli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152 cm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562720" y="2057400"/>
            <a:ext cx="1963440" cy="3186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flipV="1">
            <a:off x="2743200" y="4266720"/>
            <a:ext cx="3048120" cy="838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13:33:40Z</dcterms:created>
  <dc:creator>TMLDR_POARCH</dc:creator>
  <dc:description/>
  <dc:language>en-US</dc:language>
  <cp:lastModifiedBy>AHISD</cp:lastModifiedBy>
  <dcterms:modified xsi:type="dcterms:W3CDTF">2006-01-06T15:48:52Z</dcterms:modified>
  <cp:revision>13</cp:revision>
  <dc:subject/>
  <dc:title>The Digestive System</dc:title>
</cp:coreProperties>
</file>